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291-9EF8-40A4-96EF-99F04644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660-E3AB-4DE2-A6FF-BFEFDA8C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B5B-5210-42D7-9EAB-9E7EE3EC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36C-A89F-4E1C-9147-BF804D4E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5E8-DFFE-4EAA-8AC3-5495FF12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B97-29EA-4A55-B677-DA2D6E48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6BA-C5EF-4589-80AC-88B1F051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2F7-B6A8-410A-BB24-09ED4CAC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733-E4A7-4394-99D8-069453E9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445-8521-4C5C-BC37-23720B7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179-EE39-4196-838F-E5CCCB94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7F9-12DB-4CD1-8756-78400355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6472-7308-4C0D-A27D-0C0DFF6A8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asures of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Disease Frequ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81280" y="5867280"/>
            <a:ext cx="1613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8660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cb017"/>
                </a:solidFill>
                <a:uFillTx/>
                <a:latin typeface="Arial"/>
              </a:rPr>
              <a:t>33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67480" cy="431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7467480" cy="2514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00200" y="4419720"/>
            <a:ext cx="6019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5867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467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5257800"/>
            <a:ext cx="746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62920" y="5867280"/>
            <a:ext cx="1295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600200"/>
            <a:ext cx="6248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2968560"/>
            <a:ext cx="7467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23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4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8:54Z</dcterms:modified>
  <cp:revision>105</cp:revision>
  <dc:subject/>
  <dc:title>The Art in the State of the Art</dc:title>
</cp:coreProperties>
</file>